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1B4A-A6B0-460C-9FCB-C6BE3C3D4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076D-070B-4002-B261-5602D6EE4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7B5CFC-EA74-4E76-995B-CFF4FB634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C66B93-E0F5-46CF-AB95-B26F88F76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DCBBCC-9656-4E6A-ADCD-F6057209D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1488D3-3B68-449C-BE9A-79239F12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1562B7-8D9A-447F-AC62-AD3357FF5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1246BA-DC69-461F-9C8D-0B7B1D29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E17D92-92F2-4B05-A1C9-7F21A2210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D0E719-D54A-46F7-A5D3-2296C5BB1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1F0F52-67C5-44E7-8349-8EE5A8079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2E4CE1-9E4A-4CA0-BBD8-A57017E1D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D705-3FC5-490C-8349-5EE9E2C56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9719DB-5C5E-452D-850C-53ECD9D9F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89BA26-A1F5-4D9E-8E02-00CBC042C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E406EF-3DAF-4483-BA80-EB293D3C8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BEDBAC-26B8-47E0-9D56-8DBBA8BBF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2FA1A0-2D4D-4446-B12D-F175289CF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25B1FA-9950-4860-9321-1FF8F802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927630-BB2D-4240-92A6-AF2F89F82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08599B-859C-4F08-8252-3C83D931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61EB5A-6F2E-4F90-960E-573D494B5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7327BA-DEC9-4534-A3AD-5C99FF73A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C18E-6C42-43FB-8407-86F0F926E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D0E549-E308-4812-B813-58178D84D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B2809-FFD1-4602-B5FC-0E4376AD4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C44F4-5981-4BC3-9D41-CE8BC24AB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725E3-F5B2-41CA-BF4F-881E9B054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8621A-AF27-4EB9-B74A-465FC365E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C3022-E191-49B1-8463-3E9398C0C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B228D-E8B6-453B-8285-43562A014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15986-3DA3-44C2-BC39-9343C6F41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5A8F-7D39-4BA9-A7A9-3C356587D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8AEC2-DEEF-4B72-9713-3824B78B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87843-267B-421D-BAD4-6B5BBD1A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DBD98-B848-4B13-BF86-D4611FB9E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3D89A-9E83-4E4C-A586-B67B1B500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DC59B-D62D-4F68-BA8A-901D6AB92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4AA9F-0578-4AD6-A073-222E9B4BF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BD91F-6AFC-4862-A6DD-41E8BB21C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04F03-5CBE-4AAB-B3C1-21FD40D52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40A4E-F568-4278-9319-6DB63DE48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F1AC6-AAB0-45D6-B0C1-627D57D49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EDDB-0DD8-48C9-BAF5-6E7F3C231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0974D-4064-40C4-A791-299DB63C1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A8573-5EB5-4998-9B65-48FD0510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B2AB2-29F0-445F-BFA9-8B01E7334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A4593-ECA7-4756-8EB2-2BF151BA5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A4C90-4BF8-42E6-864A-7C0856670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05F43-2101-42BB-B670-3407A2EED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6BDDD-4DB1-4A46-AFAB-AD3C81DBA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4A22D-273B-4C09-95AD-1A0DF0034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68DC6-4386-4C71-B3D8-9DFF76A34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0D70E-D321-4678-9778-4E893712B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DB82-F2FA-4EEF-9194-63255EA62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D73C6-AD1F-4D30-A70A-86E1EBD60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D7726-89A0-468C-AF7A-8730A5FEE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013C7-D47A-434C-A5AD-5783FCB59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D4BFB-9725-41A3-B1E3-F3350800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0D4A0-33DE-4F4B-8C56-DB2ECDA6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D6760-1371-46C7-8DB4-DA4827609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4FE20-C9C6-4D17-8891-87CF771C5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AE400-51AE-4BC6-BC73-AA5F755C3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DB4AF-C4FF-48DB-B5DC-3C9B3E60A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5E50C0-D083-4546-8D1D-0AE57DF98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5521-823D-42C2-9A79-29C9DB522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9D6B8-DDE9-4C21-BB3A-ADC6AF668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097A36-D3AF-49FA-8D07-AF9C360BA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60AD5-3D2D-4A50-83B8-90A76A15B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B87C47-8081-4BB7-AACE-A3A2EC231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00155A-161A-4B63-A71D-47B3F9EC9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C2D5FF-73D7-40A9-8867-5B144E222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6E372-027F-4070-B637-288F942E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10C00-319A-4AF0-B53F-57A7F810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3D518B-8622-410F-9BD8-D073B868F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D0195F-5E0A-4C66-A040-3E225989E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E07F-4400-4703-BD1F-6A0A75372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325827-F8F0-4F07-BC96-2588E5FE6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A881C0-91EE-426B-B5CA-D3FF117C3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397496-73AE-43A6-B1B5-BE4A2FF68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EBD0EE-7EC2-47E3-A914-D701F123D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FC1B5F-66D5-4450-8CA6-F95C7F515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5D490E-0D42-46FA-A374-4664535FE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E2AD4A-19FD-447B-B5CB-DA8B4F876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7C7748-D30E-4F88-9C3A-AEB27D90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69BC9-DCD0-4D9D-9C84-CAAF4022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535090-F002-4156-90C2-B9DDA761F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4848-3D86-4BFC-B3E4-6518B954A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6A3D77-2EC6-4900-897D-5280C65C1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6C7ECB-5E05-493B-BCBF-493BA2DB9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203A67-4722-4EFE-A757-25A5F7B4B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C9040E-3866-426C-9E1E-72AD50A4B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5FA82E-82DB-4BB2-B62C-65903C668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1B663D-1265-4D0F-899A-2FCF0B275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45AFED-282B-4DCC-B085-5C77A7D57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B9FBF2-7F46-4AEA-A9A8-38193683E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999CF3-A771-401D-B4C6-410B6DFE5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1D44F5-8B6F-4BBC-BF80-9795B200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253C-8EF7-4A89-8FAC-4D5774504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5D1EE1-D1E6-4DF0-8CBF-9878A3CB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8860A5-D22E-4EB4-8681-D92EC6EE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958C5B-FCF9-4A21-87DE-BBA4237D3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722211-7C44-4A63-8077-449362377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943559-C17E-436F-8E89-8F4F6E34D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84B4C7-BF42-42EC-98FD-B77D18669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A063CF-D9C0-4E49-8527-E3628DDF5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483730-4BE8-4F4A-84EC-3387D4BE1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8CD7B6-8B7A-471B-AD6B-BF341F1A5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33FD07-4923-4F8C-8314-345F4A6DC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AAC2-AF4B-486B-A301-19F1BD939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55ED54-C67F-4E05-9AA7-05989EE91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8FBBD7-CD1D-42C8-AD7C-96F2496F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7ACB18-342D-4F1C-A0DF-2F485754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A5E86F-D9D8-46F5-80EB-459D83A16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BE00B1-5E16-4B50-BB4D-E9CE2C531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DC87E6-0746-4C1D-9837-26A1205C1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5FD530-F379-4100-80F9-5BB08A79D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FEDBBC-9762-492B-BFC1-2DA919951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9410A7-4ED3-488E-BD1A-87F957555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F5F90A-76A5-4F6A-A85C-F292DC08A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FCE9E-D9C1-4C28-905D-E99E78FC917C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6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Group 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449" name="Freeform 9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450" name="Freeform 9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Rectangle 10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11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0DFB7-F288-44DE-8171-09ECFF4A02E6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5"/>
          <p:cNvSpPr/>
          <p:nvPr/>
        </p:nvSpPr>
        <p:spPr>
          <a:xfrm>
            <a:off x="0" y="1928880"/>
            <a:ext cx="9144000" cy="49291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6" descr="2.png"/>
          <p:cNvPicPr/>
          <p:nvPr/>
        </p:nvPicPr>
        <p:blipFill>
          <a:blip r:embed="rId2"/>
          <a:stretch/>
        </p:blipFill>
        <p:spPr>
          <a:xfrm>
            <a:off x="5072040" y="3571920"/>
            <a:ext cx="3718080" cy="328608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20"/>
          <p:cNvGrpSpPr/>
          <p:nvPr/>
        </p:nvGrpSpPr>
        <p:grpSpPr>
          <a:xfrm>
            <a:off x="7287480" y="716400"/>
            <a:ext cx="867600" cy="1688400"/>
            <a:chOff x="7287480" y="716400"/>
            <a:chExt cx="867600" cy="1688400"/>
          </a:xfrm>
        </p:grpSpPr>
        <p:sp>
          <p:nvSpPr>
            <p:cNvPr id="44" name="Rectangle 19"/>
            <p:cNvSpPr/>
            <p:nvPr/>
          </p:nvSpPr>
          <p:spPr>
            <a:xfrm rot="360000">
              <a:off x="7868880" y="87876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Group 18"/>
            <p:cNvGrpSpPr/>
            <p:nvPr/>
          </p:nvGrpSpPr>
          <p:grpSpPr>
            <a:xfrm>
              <a:off x="7287480" y="716400"/>
              <a:ext cx="669960" cy="1688400"/>
              <a:chOff x="7287480" y="716400"/>
              <a:chExt cx="669960" cy="1688400"/>
            </a:xfrm>
          </p:grpSpPr>
          <p:sp>
            <p:nvSpPr>
              <p:cNvPr id="46" name="Rectangle 16"/>
              <p:cNvSpPr/>
              <p:nvPr/>
            </p:nvSpPr>
            <p:spPr>
              <a:xfrm rot="360000">
                <a:off x="7425720" y="740880"/>
                <a:ext cx="50292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Rectangle 17"/>
              <p:cNvSpPr/>
              <p:nvPr/>
            </p:nvSpPr>
            <p:spPr>
              <a:xfrm rot="360000">
                <a:off x="7341840" y="1310760"/>
                <a:ext cx="50292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" name="Group 26"/>
          <p:cNvGrpSpPr/>
          <p:nvPr/>
        </p:nvGrpSpPr>
        <p:grpSpPr>
          <a:xfrm>
            <a:off x="7856640" y="1067400"/>
            <a:ext cx="966600" cy="1712880"/>
            <a:chOff x="7856640" y="1067400"/>
            <a:chExt cx="966600" cy="1712880"/>
          </a:xfrm>
        </p:grpSpPr>
        <p:sp>
          <p:nvSpPr>
            <p:cNvPr id="49" name="Rectangle 22"/>
            <p:cNvSpPr/>
            <p:nvPr/>
          </p:nvSpPr>
          <p:spPr>
            <a:xfrm rot="600000">
              <a:off x="8488440" y="124632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24"/>
            <p:cNvSpPr/>
            <p:nvPr/>
          </p:nvSpPr>
          <p:spPr>
            <a:xfrm rot="600000">
              <a:off x="8082000" y="110664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25"/>
            <p:cNvSpPr/>
            <p:nvPr/>
          </p:nvSpPr>
          <p:spPr>
            <a:xfrm rot="600000">
              <a:off x="7945560" y="167436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41"/>
          <p:cNvGrpSpPr/>
          <p:nvPr/>
        </p:nvGrpSpPr>
        <p:grpSpPr>
          <a:xfrm>
            <a:off x="0" y="1809720"/>
            <a:ext cx="9144000" cy="120600"/>
            <a:chOff x="0" y="1809720"/>
            <a:chExt cx="9144000" cy="120600"/>
          </a:xfrm>
        </p:grpSpPr>
        <p:sp>
          <p:nvSpPr>
            <p:cNvPr id="53" name="Straight Connector 31"/>
            <p:cNvSpPr/>
            <p:nvPr/>
          </p:nvSpPr>
          <p:spPr>
            <a:xfrm>
              <a:off x="0" y="180972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33"/>
            <p:cNvSpPr/>
            <p:nvPr/>
          </p:nvSpPr>
          <p:spPr>
            <a:xfrm>
              <a:off x="0" y="1865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Straight Connector 34"/>
            <p:cNvSpPr/>
            <p:nvPr/>
          </p:nvSpPr>
          <p:spPr>
            <a:xfrm>
              <a:off x="0" y="19288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" name="Group 277" descr=""/>
          <p:cNvPicPr/>
          <p:nvPr/>
        </p:nvPicPr>
        <p:blipFill>
          <a:blip r:embed="rId3"/>
          <a:stretch/>
        </p:blipFill>
        <p:spPr>
          <a:xfrm>
            <a:off x="438120" y="2298600"/>
            <a:ext cx="1414440" cy="14986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74A27-20A4-40F6-BBB6-665DFB78F486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traight Connector 6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Group 277" descr=""/>
          <p:cNvPicPr/>
          <p:nvPr/>
        </p:nvPicPr>
        <p:blipFill>
          <a:blip r:embed="rId2"/>
          <a:stretch/>
        </p:blipFill>
        <p:spPr>
          <a:xfrm>
            <a:off x="317520" y="212760"/>
            <a:ext cx="968400" cy="1000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1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103" name="Freeform 14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104" name="Freeform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Rectangle 16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7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14373-807F-4482-98FE-00D2E5A1CC05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8"/>
          <p:cNvSpPr/>
          <p:nvPr/>
        </p:nvSpPr>
        <p:spPr>
          <a:xfrm>
            <a:off x="0" y="4718160"/>
            <a:ext cx="9144000" cy="17287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6"/>
          <p:cNvGrpSpPr/>
          <p:nvPr/>
        </p:nvGrpSpPr>
        <p:grpSpPr>
          <a:xfrm>
            <a:off x="7031880" y="3440520"/>
            <a:ext cx="867960" cy="1688400"/>
            <a:chOff x="7031880" y="3440520"/>
            <a:chExt cx="867960" cy="1688400"/>
          </a:xfrm>
        </p:grpSpPr>
        <p:sp>
          <p:nvSpPr>
            <p:cNvPr id="151" name="Rectangle 7"/>
            <p:cNvSpPr/>
            <p:nvPr/>
          </p:nvSpPr>
          <p:spPr>
            <a:xfrm rot="360000">
              <a:off x="7613640" y="360288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Group 18"/>
            <p:cNvGrpSpPr/>
            <p:nvPr/>
          </p:nvGrpSpPr>
          <p:grpSpPr>
            <a:xfrm>
              <a:off x="7031880" y="3440520"/>
              <a:ext cx="670320" cy="1688400"/>
              <a:chOff x="7031880" y="3440520"/>
              <a:chExt cx="670320" cy="1688400"/>
            </a:xfrm>
          </p:grpSpPr>
          <p:sp>
            <p:nvSpPr>
              <p:cNvPr id="153" name="Rectangle 9"/>
              <p:cNvSpPr/>
              <p:nvPr/>
            </p:nvSpPr>
            <p:spPr>
              <a:xfrm rot="360000">
                <a:off x="7170120" y="3465000"/>
                <a:ext cx="50328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Rectangle 10"/>
              <p:cNvSpPr/>
              <p:nvPr/>
            </p:nvSpPr>
            <p:spPr>
              <a:xfrm rot="360000">
                <a:off x="7086240" y="4034880"/>
                <a:ext cx="50328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" name="Group 11"/>
          <p:cNvGrpSpPr/>
          <p:nvPr/>
        </p:nvGrpSpPr>
        <p:grpSpPr>
          <a:xfrm>
            <a:off x="7620120" y="3791520"/>
            <a:ext cx="966600" cy="1712880"/>
            <a:chOff x="7620120" y="3791520"/>
            <a:chExt cx="966600" cy="1712880"/>
          </a:xfrm>
        </p:grpSpPr>
        <p:sp>
          <p:nvSpPr>
            <p:cNvPr id="156" name="Rectangle 12"/>
            <p:cNvSpPr/>
            <p:nvPr/>
          </p:nvSpPr>
          <p:spPr>
            <a:xfrm rot="600000">
              <a:off x="8251920" y="397044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3"/>
            <p:cNvSpPr/>
            <p:nvPr/>
          </p:nvSpPr>
          <p:spPr>
            <a:xfrm rot="600000">
              <a:off x="7845480" y="383076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4"/>
            <p:cNvSpPr/>
            <p:nvPr/>
          </p:nvSpPr>
          <p:spPr>
            <a:xfrm rot="600000">
              <a:off x="7709040" y="439848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9"/>
          <p:cNvGrpSpPr/>
          <p:nvPr/>
        </p:nvGrpSpPr>
        <p:grpSpPr>
          <a:xfrm>
            <a:off x="0" y="4575240"/>
            <a:ext cx="9144000" cy="120600"/>
            <a:chOff x="0" y="4575240"/>
            <a:chExt cx="9144000" cy="120600"/>
          </a:xfrm>
        </p:grpSpPr>
        <p:sp>
          <p:nvSpPr>
            <p:cNvPr id="160" name="Straight Connector 15"/>
            <p:cNvSpPr/>
            <p:nvPr/>
          </p:nvSpPr>
          <p:spPr>
            <a:xfrm>
              <a:off x="0" y="45752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16"/>
            <p:cNvSpPr/>
            <p:nvPr/>
          </p:nvSpPr>
          <p:spPr>
            <a:xfrm>
              <a:off x="0" y="46306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Straight Connector 17"/>
            <p:cNvSpPr/>
            <p:nvPr/>
          </p:nvSpPr>
          <p:spPr>
            <a:xfrm>
              <a:off x="0" y="46944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3" name="Group 277" descr=""/>
          <p:cNvPicPr/>
          <p:nvPr/>
        </p:nvPicPr>
        <p:blipFill>
          <a:blip r:embed="rId2"/>
          <a:stretch/>
        </p:blipFill>
        <p:spPr>
          <a:xfrm>
            <a:off x="360360" y="5005440"/>
            <a:ext cx="992160" cy="1066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551C0-6BB8-4A98-BF27-41EA7B203C84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208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209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Straight Connector 13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2F92D-8CD2-47B2-8556-75D2147B907B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9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10"/>
          <p:cNvGrpSpPr/>
          <p:nvPr/>
        </p:nvGrpSpPr>
        <p:grpSpPr>
          <a:xfrm>
            <a:off x="0" y="1143000"/>
            <a:ext cx="9144000" cy="120600"/>
            <a:chOff x="0" y="1143000"/>
            <a:chExt cx="9144000" cy="120600"/>
          </a:xfrm>
        </p:grpSpPr>
        <p:sp>
          <p:nvSpPr>
            <p:cNvPr id="257" name="Straight Connector 11"/>
            <p:cNvSpPr/>
            <p:nvPr/>
          </p:nvSpPr>
          <p:spPr>
            <a:xfrm>
              <a:off x="0" y="11430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Straight Connector 12"/>
            <p:cNvSpPr/>
            <p:nvPr/>
          </p:nvSpPr>
          <p:spPr>
            <a:xfrm>
              <a:off x="0" y="11984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Straight Connector 13"/>
            <p:cNvSpPr/>
            <p:nvPr/>
          </p:nvSpPr>
          <p:spPr>
            <a:xfrm>
              <a:off x="0" y="1262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0" name="Group 277" descr=""/>
          <p:cNvPicPr/>
          <p:nvPr/>
        </p:nvPicPr>
        <p:blipFill>
          <a:blip r:embed="rId2"/>
          <a:stretch/>
        </p:blipFill>
        <p:spPr>
          <a:xfrm>
            <a:off x="285840" y="146160"/>
            <a:ext cx="860400" cy="9334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6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7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7C4D0-4085-4AF1-BB33-7A1276BE3EEB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05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06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33D80-3AEC-4824-BFBC-38E5CEB88143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8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10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54" name="Freeform 11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55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Rectangle 12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FC43C-1343-4DFC-8FAE-B55514D1CD91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6"/>
          <p:cNvSpPr/>
          <p:nvPr/>
        </p:nvSpPr>
        <p:spPr>
          <a:xfrm>
            <a:off x="0" y="0"/>
            <a:ext cx="9144000" cy="13906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Group 7"/>
          <p:cNvGrpSpPr/>
          <p:nvPr/>
        </p:nvGrpSpPr>
        <p:grpSpPr>
          <a:xfrm>
            <a:off x="0" y="1380960"/>
            <a:ext cx="9144000" cy="120960"/>
            <a:chOff x="0" y="1380960"/>
            <a:chExt cx="9144000" cy="120960"/>
          </a:xfrm>
        </p:grpSpPr>
        <p:sp>
          <p:nvSpPr>
            <p:cNvPr id="402" name="Straight Connector 8"/>
            <p:cNvSpPr/>
            <p:nvPr/>
          </p:nvSpPr>
          <p:spPr>
            <a:xfrm>
              <a:off x="0" y="13809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Straight Connector 9"/>
            <p:cNvSpPr/>
            <p:nvPr/>
          </p:nvSpPr>
          <p:spPr>
            <a:xfrm>
              <a:off x="0" y="14367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Straight Connector 10"/>
            <p:cNvSpPr/>
            <p:nvPr/>
          </p:nvSpPr>
          <p:spPr>
            <a:xfrm>
              <a:off x="0" y="15004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E1E09-0C47-4542-A44E-2455CA6F4027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2998440"/>
            <a:ext cx="629136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굴림"/>
              </a:rPr>
              <a:t>KORN 101-0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1499760" y="4856040"/>
            <a:ext cx="698508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LESSON 9. </a:t>
            </a: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어느 나라에서 오셨습니까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5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았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었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였습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오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배우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기다리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읽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공부하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__________(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으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)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셨습니까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_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었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였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지하철을 타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영화를 보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사진을 찍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냉면을 잡수시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먹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전화를 하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5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에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녁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편지를 쓰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다음 주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쉬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내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결혼을 하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디음 달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일본에 가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오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약속이 있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6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1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언제 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__________(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스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)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ㅂ니까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_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에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_(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영화를 봤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지난 주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서울에 왔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6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월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결혼했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작년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9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신문을 읽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청소를 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7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_________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에서 무엇을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/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누구를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           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________(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으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)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십니까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에서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을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를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          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__(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학원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배우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영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도서관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공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시장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사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야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공항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기다리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어머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다방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만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친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숙제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ssignment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5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TB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미영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미국 사람입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제임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아니요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저는 미국 사람이 아닙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미영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그럼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,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어느 나라에서 오셨습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제임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영국에서 왔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DIALOGUE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나라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cou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미국 사람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Americ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아니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그럼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well (th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영국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Eng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니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be n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나는 의사가 아닙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여기는 부산이 아닙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이것은 교과서가 아닙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어느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(≈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어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)  which; interogative adj. always followed by a noun (cf.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누구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무엇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어느 것이 좋습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어느 나라 사람입니까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어느 회사에서 일합니까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 txBox="1"/>
          <p:nvPr/>
        </p:nvSpPr>
        <p:spPr>
          <a:xfrm>
            <a:off x="50328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음식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호주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Australia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독일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Germany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449892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캐나다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Canada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프랑스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Franc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호 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room number ~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보충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dditional 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Pattern Drill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7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가 아닙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선생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회사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정수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한국 음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교과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9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 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_____________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입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아니요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_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가 아닙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           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미국사람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캐나다 사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브라운 씨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마이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여자 친구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동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은행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우체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월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17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일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3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월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18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어느 나라에서 오셨습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에서 왔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미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호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프랑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독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영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3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어느 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______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에서 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________(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으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십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에서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(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교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공부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201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역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지하철을 타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시청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백화점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사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롯데백화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학교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한국말을 배우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슬리퍼리록 대학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호텔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친구를 만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신라호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08:40:46Z</dcterms:created>
  <dc:creator>jyy</dc:creator>
  <dc:description/>
  <dc:language>en-US</dc:language>
  <cp:lastModifiedBy>SRU</cp:lastModifiedBy>
  <dcterms:modified xsi:type="dcterms:W3CDTF">2012-12-03T16:57:09Z</dcterms:modified>
  <cp:revision>104</cp:revision>
  <dc:subject/>
  <dc:title>KOREAN LANGUAGE</dc:title>
</cp:coreProperties>
</file>